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CE23E-8841-4911-8B3C-D2CAB8E0A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4290C-8C19-4176-930E-3670E0AFB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98528-2926-4EAF-A899-E12046169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CFC0D-6D78-4A01-B6A4-6F84489A2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7324CB-1A13-4B7D-953F-6280B971FD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61A05-D466-498A-8D5A-B99DAA852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CD9F3-7900-4917-B2FD-4634E53C8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CEA66-2540-4585-B8C3-35ACA9197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A86BD-4C7F-45B0-A5AD-4C575D064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02C68-15B5-4924-8D62-3ECA7115B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25420-A8C1-4A32-8E30-59ED57396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31AC1-385C-494D-BF6B-66E4E37FB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C38B2-9175-4200-956E-AAA1401FE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AD556-A33B-4109-A786-159DE7DFA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AC20C-9AE3-4286-BAAD-FACA53038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AA55A0-5E30-4A83-8D10-E969A92748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21399E-EC8D-4C08-B0D3-4D746EAE88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D9DC7-A083-418C-A7F6-0FDB20517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23097-F1B2-49D1-B786-06586B5F5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3B730-23B1-4557-B083-116DB13AB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4CB21-75D4-4329-9E06-E6BB68CF9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CCA32-ADEC-47FE-A5E2-206DC471F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C12E3-D906-4C78-933A-294B34AD7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8f8f8"/>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EF2DC-51B0-4F8F-B220-C3EECFB0D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48486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48486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3a3a56"/>
                </a:gs>
                <a:gs pos="100000">
                  <a:srgbClr val="48486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5d5d7b"/>
                </a:gs>
                <a:gs pos="100000">
                  <a:srgbClr val="48486a"/>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5d5d7b"/>
                </a:gs>
                <a:gs pos="100000">
                  <a:srgbClr val="48486a">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3a3a56"/>
                </a:gs>
                <a:gs pos="100000">
                  <a:srgbClr val="48486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5d5d7b"/>
                </a:gs>
                <a:gs pos="100000">
                  <a:srgbClr val="48486a">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0E775-D666-4862-AD32-7AB122BD8A8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8f8f8"/>
                </a:solidFill>
                <a:latin typeface="Arial Black"/>
              </a:rPr>
              <a:t>Click to edit the title text format</a:t>
            </a:r>
            <a:endParaRPr b="1" lang="en-US" sz="4400" spc="-1" strike="noStrike">
              <a:solidFill>
                <a:srgbClr val="f8f8f8"/>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3d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3d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3d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48486a">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48486a">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3a3a56"/>
                </a:gs>
                <a:gs pos="100000">
                  <a:srgbClr val="48486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3a3a56"/>
                </a:gs>
                <a:gs pos="100000">
                  <a:srgbClr val="48486a">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5d5d7b"/>
                </a:gs>
                <a:gs pos="100000">
                  <a:srgbClr val="48486a">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5d5d7b"/>
                </a:gs>
                <a:gs pos="100000">
                  <a:srgbClr val="48486a">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8f8f8"/>
                </a:solidFill>
                <a:latin typeface="Arial Black"/>
              </a:rPr>
              <a:t>Click to edit the title text format</a:t>
            </a:r>
            <a:endParaRPr b="1" lang="en-US" sz="5400" spc="-1" strike="noStrike">
              <a:solidFill>
                <a:srgbClr val="f8f8f8"/>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D7C7-B117-4882-9B97-0AE965E9E3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3dcc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00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3d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71640" y="170028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5400" spc="-1" strike="noStrike">
                <a:solidFill>
                  <a:srgbClr val="f8f8f8"/>
                </a:solidFill>
                <a:latin typeface="Arial Black"/>
              </a:rPr>
              <a:t>Unequal Distribution of Income.</a:t>
            </a:r>
            <a:endParaRPr b="1" lang="en-US" sz="5400" spc="-1" strike="noStrike">
              <a:solidFill>
                <a:srgbClr val="f8f8f8"/>
              </a:solidFill>
              <a:latin typeface="Arial Black"/>
            </a:endParaRPr>
          </a:p>
        </p:txBody>
      </p:sp>
      <p:sp>
        <p:nvSpPr>
          <p:cNvPr id="99" name="PlaceHolder 2"/>
          <p:cNvSpPr>
            <a:spLocks noGrp="1"/>
          </p:cNvSpPr>
          <p:nvPr>
            <p:ph type="subTitle"/>
          </p:nvPr>
        </p:nvSpPr>
        <p:spPr>
          <a:xfrm>
            <a:off x="971640" y="486900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Arial"/>
              </a:rPr>
              <a:t>By Edward Aches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476360" y="981000"/>
            <a:ext cx="6049800" cy="479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8f8f8"/>
                </a:solidFill>
                <a:latin typeface="Arial Black"/>
              </a:rPr>
              <a:t>Lorenz Curve</a:t>
            </a:r>
            <a:endParaRPr b="1" lang="en-US" sz="4400" spc="-1" strike="noStrike">
              <a:solidFill>
                <a:srgbClr val="f8f8f8"/>
              </a:solidFill>
              <a:latin typeface="Arial Black"/>
            </a:endParaRPr>
          </a:p>
        </p:txBody>
      </p:sp>
      <p:sp>
        <p:nvSpPr>
          <p:cNvPr id="102" name=""/>
          <p:cNvSpPr/>
          <p:nvPr/>
        </p:nvSpPr>
        <p:spPr>
          <a:xfrm>
            <a:off x="2700360" y="2060640"/>
            <a:ext cx="0" cy="324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700360" y="5300640"/>
            <a:ext cx="32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V="1">
            <a:off x="2700360" y="2060640"/>
            <a:ext cx="3240000" cy="324000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2700360" y="2060640"/>
            <a:ext cx="3240000" cy="3271680"/>
          </a:xfrm>
          <a:custGeom>
            <a:avLst/>
            <a:gdLst/>
            <a:ahLst/>
            <a:rect l="l" t="t" r="r" b="b"/>
            <a:pathLst>
              <a:path w="2041" h="2061">
                <a:moveTo>
                  <a:pt x="0" y="2041"/>
                </a:moveTo>
                <a:lnTo>
                  <a:pt x="228" y="2061"/>
                </a:lnTo>
                <a:lnTo>
                  <a:pt x="547" y="2047"/>
                </a:lnTo>
                <a:lnTo>
                  <a:pt x="929" y="1957"/>
                </a:lnTo>
                <a:lnTo>
                  <a:pt x="1387" y="1755"/>
                </a:lnTo>
                <a:lnTo>
                  <a:pt x="1651" y="1457"/>
                </a:lnTo>
                <a:lnTo>
                  <a:pt x="1790" y="1159"/>
                </a:lnTo>
                <a:lnTo>
                  <a:pt x="1824" y="1068"/>
                </a:lnTo>
                <a:lnTo>
                  <a:pt x="1873" y="937"/>
                </a:lnTo>
                <a:lnTo>
                  <a:pt x="2005" y="444"/>
                </a:lnTo>
                <a:lnTo>
                  <a:pt x="2041"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1480320" y="2997360"/>
            <a:ext cx="454680" cy="1439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Unicode MS"/>
                <a:ea typeface="Arial Unicode MS"/>
              </a:rPr>
              <a:t>% of Income</a:t>
            </a:r>
            <a:endParaRPr b="0" lang="en-US" sz="1800" spc="-1" strike="noStrike">
              <a:solidFill>
                <a:srgbClr val="ffffff"/>
              </a:solidFill>
              <a:latin typeface="Arial"/>
            </a:endParaRPr>
          </a:p>
        </p:txBody>
      </p:sp>
      <p:sp>
        <p:nvSpPr>
          <p:cNvPr id="107" name=""/>
          <p:cNvSpPr/>
          <p:nvPr/>
        </p:nvSpPr>
        <p:spPr>
          <a:xfrm>
            <a:off x="3348000" y="6237360"/>
            <a:ext cx="20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Unicode MS"/>
                <a:ea typeface="Arial Unicode MS"/>
              </a:rPr>
              <a:t>% of Households</a:t>
            </a:r>
            <a:endParaRPr b="0" lang="en-US" sz="1800" spc="-1" strike="noStrike">
              <a:solidFill>
                <a:srgbClr val="ffffff"/>
              </a:solidFill>
              <a:latin typeface="Arial"/>
            </a:endParaRPr>
          </a:p>
        </p:txBody>
      </p:sp>
      <p:sp>
        <p:nvSpPr>
          <p:cNvPr id="108" name=""/>
          <p:cNvSpPr/>
          <p:nvPr/>
        </p:nvSpPr>
        <p:spPr>
          <a:xfrm>
            <a:off x="3203640" y="155736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Unicode MS"/>
                <a:ea typeface="Arial Unicode MS"/>
              </a:rPr>
              <a:t>Line of Perfect Equality</a:t>
            </a:r>
            <a:endParaRPr b="0" lang="en-US" sz="1800" spc="-1" strike="noStrike">
              <a:solidFill>
                <a:srgbClr val="ffffff"/>
              </a:solidFill>
              <a:latin typeface="Arial"/>
            </a:endParaRPr>
          </a:p>
        </p:txBody>
      </p:sp>
      <p:sp>
        <p:nvSpPr>
          <p:cNvPr id="109" name=""/>
          <p:cNvSpPr/>
          <p:nvPr/>
        </p:nvSpPr>
        <p:spPr>
          <a:xfrm>
            <a:off x="4427640" y="1989000"/>
            <a:ext cx="904680" cy="655920"/>
          </a:xfrm>
          <a:custGeom>
            <a:avLst/>
            <a:gdLst/>
            <a:ahLst/>
            <a:rect l="l" t="t" r="r" b="b"/>
            <a:pathLst>
              <a:path w="570" h="413">
                <a:moveTo>
                  <a:pt x="0" y="0"/>
                </a:moveTo>
                <a:lnTo>
                  <a:pt x="570" y="413"/>
                </a:ln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443640" y="2349360"/>
            <a:ext cx="252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Unicode MS"/>
                <a:ea typeface="Arial Unicode MS"/>
              </a:rPr>
              <a:t>Disposable Income Lorenz curve.</a:t>
            </a:r>
            <a:endParaRPr b="0" lang="en-US" sz="1800" spc="-1" strike="noStrike">
              <a:solidFill>
                <a:srgbClr val="ffffff"/>
              </a:solidFill>
              <a:latin typeface="Arial"/>
            </a:endParaRPr>
          </a:p>
        </p:txBody>
      </p:sp>
      <p:sp>
        <p:nvSpPr>
          <p:cNvPr id="111" name=""/>
          <p:cNvSpPr/>
          <p:nvPr/>
        </p:nvSpPr>
        <p:spPr>
          <a:xfrm>
            <a:off x="5796000" y="2781360"/>
            <a:ext cx="630360" cy="257040"/>
          </a:xfrm>
          <a:custGeom>
            <a:avLst/>
            <a:gdLst/>
            <a:ahLst/>
            <a:rect l="l" t="t" r="r" b="b"/>
            <a:pathLst>
              <a:path w="397" h="162">
                <a:moveTo>
                  <a:pt x="397" y="0"/>
                </a:moveTo>
                <a:lnTo>
                  <a:pt x="0" y="162"/>
                </a:ln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940360" y="2060640"/>
            <a:ext cx="0" cy="3240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1979640" y="1916280"/>
            <a:ext cx="6476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Unicode MS"/>
                <a:ea typeface="Arial Unicode MS"/>
              </a:rPr>
              <a:t>100%</a:t>
            </a:r>
            <a:endParaRPr b="0" lang="en-US" sz="1400" spc="-1" strike="noStrike">
              <a:solidFill>
                <a:srgbClr val="ffffff"/>
              </a:solidFill>
              <a:latin typeface="Arial"/>
            </a:endParaRPr>
          </a:p>
        </p:txBody>
      </p:sp>
      <p:sp>
        <p:nvSpPr>
          <p:cNvPr id="114" name=""/>
          <p:cNvSpPr/>
          <p:nvPr/>
        </p:nvSpPr>
        <p:spPr>
          <a:xfrm>
            <a:off x="5796000" y="5373720"/>
            <a:ext cx="6476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Unicode MS"/>
                <a:ea typeface="Arial Unicode MS"/>
              </a:rPr>
              <a:t>100%</a:t>
            </a:r>
            <a:endParaRPr b="0" lang="en-US" sz="1400" spc="-1" strike="noStrike">
              <a:solidFill>
                <a:srgbClr val="ffffff"/>
              </a:solidFill>
              <a:latin typeface="Arial"/>
            </a:endParaRPr>
          </a:p>
        </p:txBody>
      </p:sp>
      <p:sp>
        <p:nvSpPr>
          <p:cNvPr id="115" name=""/>
          <p:cNvSpPr/>
          <p:nvPr/>
        </p:nvSpPr>
        <p:spPr>
          <a:xfrm>
            <a:off x="2340000" y="5373720"/>
            <a:ext cx="5763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Arial Unicode MS"/>
                <a:ea typeface="Arial Unicode MS"/>
              </a:rPr>
              <a:t>0%</a:t>
            </a:r>
            <a:endParaRPr b="0" lang="en-US" sz="1400" spc="-1" strike="noStrike">
              <a:solidFill>
                <a:srgbClr val="ffffff"/>
              </a:solidFill>
              <a:latin typeface="Arial"/>
            </a:endParaRPr>
          </a:p>
        </p:txBody>
      </p:sp>
      <p:sp>
        <p:nvSpPr>
          <p:cNvPr id="116" name=""/>
          <p:cNvSpPr/>
          <p:nvPr/>
        </p:nvSpPr>
        <p:spPr>
          <a:xfrm>
            <a:off x="3419640" y="5229360"/>
            <a:ext cx="1440" cy="172800"/>
          </a:xfrm>
          <a:custGeom>
            <a:avLst/>
            <a:gdLst/>
            <a:ahLst/>
            <a:rect l="l" t="t" r="r" b="b"/>
            <a:pathLst>
              <a:path w="1" h="109">
                <a:moveTo>
                  <a:pt x="0" y="0"/>
                </a:moveTo>
                <a:lnTo>
                  <a:pt x="1" y="109"/>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292720" y="5229360"/>
            <a:ext cx="1440" cy="172800"/>
          </a:xfrm>
          <a:custGeom>
            <a:avLst/>
            <a:gdLst/>
            <a:ahLst/>
            <a:rect l="l" t="t" r="r" b="b"/>
            <a:pathLst>
              <a:path w="1" h="109">
                <a:moveTo>
                  <a:pt x="0" y="0"/>
                </a:moveTo>
                <a:lnTo>
                  <a:pt x="1" y="109"/>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4788000" y="5229360"/>
            <a:ext cx="4680" cy="171360"/>
          </a:xfrm>
          <a:custGeom>
            <a:avLst/>
            <a:gdLst/>
            <a:ahLst/>
            <a:rect l="l" t="t" r="r" b="b"/>
            <a:pathLst>
              <a:path w="3" h="108">
                <a:moveTo>
                  <a:pt x="3" y="0"/>
                </a:moveTo>
                <a:lnTo>
                  <a:pt x="0" y="10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4067280" y="5229360"/>
            <a:ext cx="1440" cy="171360"/>
          </a:xfrm>
          <a:custGeom>
            <a:avLst/>
            <a:gdLst/>
            <a:ahLst/>
            <a:rect l="l" t="t" r="r" b="b"/>
            <a:pathLst>
              <a:path w="1" h="108">
                <a:moveTo>
                  <a:pt x="1" y="0"/>
                </a:moveTo>
                <a:lnTo>
                  <a:pt x="0" y="10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2627280" y="465300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2627280" y="393372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627280" y="321300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627280" y="263700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4427640" y="6164280"/>
            <a:ext cx="36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4643280" y="6380280"/>
            <a:ext cx="36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1835280" y="4941720"/>
            <a:ext cx="72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8f8f8"/>
                </a:solidFill>
                <a:latin typeface="Arial Black"/>
              </a:rPr>
              <a:t>Explanation of Market Failure</a:t>
            </a:r>
            <a:endParaRPr b="1" lang="en-US" sz="4400" spc="-1" strike="noStrike">
              <a:solidFill>
                <a:srgbClr val="f8f8f8"/>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3d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Unequal Distribution of income illustrates an example of market failure because it creates inefficiency. This occurs because the majority of people who are earning a comparatively small amount become angry at the amount they are earning so do not work as efficiently. The people earning higher amounts become lazy and so also become less efficient. However this is not easily recognised and can only really be noticed due to government intervention when they try to control it to restore previous efficienc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22:17:05Z</dcterms:created>
  <dc:creator>achesonem</dc:creator>
  <dc:description/>
  <dc:language>en-US</dc:language>
  <cp:lastModifiedBy>achesonem</cp:lastModifiedBy>
  <dcterms:modified xsi:type="dcterms:W3CDTF">2008-07-28T01:56:38Z</dcterms:modified>
  <cp:revision>9</cp:revision>
  <dc:subject/>
  <dc:title>Unequal Distribution of Income.</dc:title>
</cp:coreProperties>
</file>